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34.wmf" ContentType="image/x-wmf"/>
  <Override PartName="/ppt/media/image11.png" ContentType="image/png"/>
  <Override PartName="/ppt/media/image51.wmf" ContentType="image/x-wmf"/>
  <Override PartName="/ppt/media/image29.png" ContentType="image/png"/>
  <Override PartName="/ppt/media/image32.wmf" ContentType="image/x-wmf"/>
  <Override PartName="/ppt/media/image2.wmf" ContentType="image/x-wmf"/>
  <Override PartName="/ppt/media/image14.wmf" ContentType="image/x-wmf"/>
  <Override PartName="/ppt/media/image10.png" ContentType="image/png"/>
  <Override PartName="/ppt/media/image50.wmf" ContentType="image/x-wmf"/>
  <Override PartName="/ppt/media/image28.png" ContentType="image/png"/>
  <Override PartName="/ppt/media/image31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png" ContentType="image/png"/>
  <Override PartName="/ppt/media/image27.png" ContentType="image/png"/>
  <Override PartName="/ppt/media/image30.wmf" ContentType="image/x-wmf"/>
  <Override PartName="/ppt/media/image25.png" ContentType="image/png"/>
  <Override PartName="/ppt/media/image24.png" ContentType="image/png"/>
  <Override PartName="/ppt/media/image59.wmf" ContentType="image/x-wmf"/>
  <Override PartName="/ppt/media/image22.wmf" ContentType="image/x-wmf"/>
  <Override PartName="/ppt/media/image23.png" ContentType="image/png"/>
  <Override PartName="/ppt/media/image60.wmf" ContentType="image/x-wmf"/>
  <Override PartName="/ppt/media/image18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4.wmf" ContentType="image/x-wmf"/>
  <Override PartName="/ppt/media/image16.wmf" ContentType="image/x-wmf"/>
  <Override PartName="/ppt/media/image41.wmf" ContentType="image/x-wmf"/>
  <Override PartName="/ppt/media/image17.wmf" ContentType="image/x-wmf"/>
  <Override PartName="/ppt/media/image8.png" ContentType="image/png"/>
  <Override PartName="/ppt/media/image42.wmf" ContentType="image/x-wmf"/>
  <Override PartName="/ppt/media/image5.png" ContentType="image/png"/>
  <Override PartName="/ppt/media/image1.wmf" ContentType="image/x-wmf"/>
  <Override PartName="/ppt/media/image13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png" ContentType="image/png"/>
  <Override PartName="/ppt/media/image52.wmf" ContentType="image/x-wmf"/>
  <Override PartName="/ppt/media/image35.wmf" ContentType="image/x-wmf"/>
  <Override PartName="/ppt/media/image36.wmf" ContentType="image/x-wmf"/>
  <Override PartName="/ppt/media/image38.wmf" ContentType="image/x-wmf"/>
  <Override PartName="/ppt/media/image39.wmf" ContentType="image/x-wmf"/>
  <Override PartName="/ppt/media/image6.png" ContentType="image/png"/>
  <Override PartName="/ppt/media/image40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49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453A-D16E-45AA-AA83-4F5A2B1A8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E8A4-5E3B-4F09-8AD1-E78945016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6712-D7E2-4A75-B955-9FEDAD5F7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44AB-ADBD-449C-9CAD-7B94655CC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2AAC-7206-4AE2-8E0C-DD1170988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49CB-957E-4B1E-9842-AD7C594F7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69C6-AD1C-4C82-982E-525442B52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8214-A55D-4234-9730-45EC2D58A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253CC6-7B2D-4DFC-AD35-A48FC9976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BE8E-CD3A-461D-B89C-94C613379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7A92-289E-4171-98DD-2F6E52020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EB99-176F-413C-9DB9-A097131F1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F25C-997E-4A5C-BA41-CBD896C50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D9C3-C100-4860-BDF9-A9936FADD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D915-9E98-40E4-98DA-CB05A8E37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9C92-3185-4E62-9526-571F6C125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DFE9-C96E-4F56-89D5-566459080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9553-D7AD-48A8-B0F0-B625729BA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D828-0B7F-4878-BF38-D5FC2AFAA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243D-C528-4644-8B34-6074B43A4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9259-26E0-4574-9C05-5FA370FAB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9E68-1653-4A82-9032-80FCA0D09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6385-3FF9-4CE8-B07F-0AC216FD6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539A-7371-4C06-8D80-C171E9F1E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5C00-DBE3-4CB0-AE27-ED3FBF435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2950-AC50-4151-A7B2-F81264B48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2A16-0FF2-4FBA-AAD3-6E43B881A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78EA-5EE2-40BC-AB29-26AF7924B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396-F64C-4A41-A543-E284CF79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533F-35B9-4279-80C8-E0A79AE6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F18-E475-4D86-BC7F-80613E87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5FC-90F0-4022-B353-7A0A5779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061-2513-4469-884F-11420F31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094-8DC4-45A8-B4E4-192CB145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196-C522-4A3E-B45F-E5BCE608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C92-5B95-406E-A6C2-E25E552D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FBB-D23F-4E8D-9626-2027A3D2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6AE-40E7-49E0-BF57-213F50E3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11B-B650-4B40-B8C7-628792E1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F6A-8E21-4D4D-87CA-ED94DB28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DE81-5D9F-4C2A-8268-60B27875A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elkady/Desktop/pinv(A)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image" Target="../media/image12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4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5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6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7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38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39.wmf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Analy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45720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B301-4E47-406F-A795-D7ED45E98F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ingularity configuration of the 2-DOF planar robot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380880" y="3833640"/>
                <a:ext cx="58676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571680" y="2757600"/>
                <a:ext cx="21650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5" name="Group 6"/>
          <p:cNvGrpSpPr/>
          <p:nvPr/>
        </p:nvGrpSpPr>
        <p:grpSpPr>
          <a:xfrm>
            <a:off x="4419720" y="3123720"/>
            <a:ext cx="4190760" cy="3416760"/>
            <a:chOff x="4419720" y="3123720"/>
            <a:chExt cx="4190760" cy="3416760"/>
          </a:xfrm>
        </p:grpSpPr>
        <p:sp>
          <p:nvSpPr>
            <p:cNvPr id="146" name="AutoShape 7"/>
            <p:cNvSpPr/>
            <p:nvPr/>
          </p:nvSpPr>
          <p:spPr>
            <a:xfrm rot="19278600">
              <a:off x="4834080" y="5505120"/>
              <a:ext cx="213336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 rot="19230600">
              <a:off x="6553080" y="4266720"/>
              <a:ext cx="175284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4419720" y="6324480"/>
              <a:ext cx="1371600" cy="1526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7093800" y="502920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8077320" y="3886200"/>
              <a:ext cx="75960" cy="76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 rot="17266800">
              <a:off x="5029200" y="632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5486400" y="5943600"/>
              <a:ext cx="30492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5798160" y="569268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7772400" y="33526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 flipH="1">
              <a:off x="5105520" y="502920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7"/>
            <p:cNvSpPr/>
            <p:nvPr/>
          </p:nvSpPr>
          <p:spPr>
            <a:xfrm flipV="1">
              <a:off x="6781680" y="3962160"/>
              <a:ext cx="12956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8"/>
            <p:cNvSpPr/>
            <p:nvPr/>
          </p:nvSpPr>
          <p:spPr>
            <a:xfrm>
              <a:off x="7010280" y="44197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9"/>
            <p:cNvSpPr/>
            <p:nvPr/>
          </p:nvSpPr>
          <p:spPr>
            <a:xfrm>
              <a:off x="6248520" y="5638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5029200" y="63244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1"/>
            <p:cNvSpPr/>
            <p:nvPr/>
          </p:nvSpPr>
          <p:spPr>
            <a:xfrm flipV="1">
              <a:off x="5105520" y="4952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2"/>
            <p:cNvSpPr/>
            <p:nvPr/>
          </p:nvSpPr>
          <p:spPr>
            <a:xfrm>
              <a:off x="7315200" y="6172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3"/>
            <p:cNvSpPr/>
            <p:nvPr/>
          </p:nvSpPr>
          <p:spPr>
            <a:xfrm>
              <a:off x="5181480" y="4724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4"/>
            <p:cNvSpPr/>
            <p:nvPr/>
          </p:nvSpPr>
          <p:spPr>
            <a:xfrm>
              <a:off x="739152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 flipV="1">
              <a:off x="7467120" y="31237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6"/>
            <p:cNvSpPr/>
            <p:nvPr/>
          </p:nvSpPr>
          <p:spPr>
            <a:xfrm>
              <a:off x="7238880" y="3276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609480" y="22860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nt(J)=0            Not full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2590920" y="23623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0"/>
          <p:cNvGrpSpPr/>
          <p:nvPr/>
        </p:nvGrpSpPr>
        <p:grpSpPr>
          <a:xfrm>
            <a:off x="685800" y="5410080"/>
            <a:ext cx="2057400" cy="990720"/>
            <a:chOff x="685800" y="5410080"/>
            <a:chExt cx="2057400" cy="990720"/>
          </a:xfrm>
        </p:grpSpPr>
        <mc:AlternateContent>
          <mc:Choice xmlns:a14="http://schemas.microsoft.com/office/drawing/2010/main" Requires="a14">
            <p:sp>
              <p:nvSpPr>
                <p:cNvPr id="169" name="Object 29"/>
                <p:cNvSpPr txBox="1"/>
                <p:nvPr/>
              </p:nvSpPr>
              <p:spPr>
                <a:xfrm>
                  <a:off x="761760" y="5873760"/>
                  <a:ext cx="99072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Text Box 30"/>
            <p:cNvSpPr/>
            <p:nvPr/>
          </p:nvSpPr>
          <p:spPr>
            <a:xfrm>
              <a:off x="685800" y="5410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(J)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i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A be an mxn matrix, and let       be the pseudoinverse of A. If A is of full rank, then       can be computed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105520" y="1676520"/>
                <a:ext cx="374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572000" y="2057400"/>
                <a:ext cx="457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6"/>
              <p:cNvSpPr txBox="1"/>
              <p:nvPr/>
            </p:nvSpPr>
            <p:spPr>
              <a:xfrm>
                <a:off x="2438280" y="2860560"/>
                <a:ext cx="3549600" cy="15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[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]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m>
                                <m:mr>
                                  <m:e/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  <m:e>
                                          <m:m>
                                            <m:mr>
                                              <m:e/>
                                              <m:e/>
                                            </m:mr>
                                          </m:m>
                                        </m:e>
                                      </m:mr>
                                    </m:m>
                                  </m:e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[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A</m:t>
                              </m:r>
                              <m:sSup>
                                <m:e>
                                  <m:r>
                                    <m:t xml:space="preserve">]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m>
                                <m:mr>
                                  <m:e/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≥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ind X s.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762120" y="1905120"/>
                <a:ext cx="2743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8"/>
              <p:cNvSpPr txBox="1"/>
              <p:nvPr/>
            </p:nvSpPr>
            <p:spPr>
              <a:xfrm>
                <a:off x="609480" y="3048120"/>
                <a:ext cx="640080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1155600" y="5100480"/>
                <a:ext cx="231156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Rectangle 12"/>
          <p:cNvSpPr/>
          <p:nvPr/>
        </p:nvSpPr>
        <p:spPr>
          <a:xfrm>
            <a:off x="533520" y="4724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Matlab Command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inv(A)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to calculate A</a:t>
            </a:r>
            <a:r>
              <a:rPr b="0" lang="en-US" sz="2400" spc="-1" strike="noStrike" baseline="30000">
                <a:solidFill>
                  <a:srgbClr val="99003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 Jaco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(J)&lt;n : Jacobian Matrix is less than full 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obian is non-inve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undary Singular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ccur when the tool tip is on the surface of the work envel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ior Singular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ccur inside the work envelope when two or more of the axes of the robot form a straight line, i.e., col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185840" y="1523880"/>
                <a:ext cx="334332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495680" y="1523880"/>
                <a:ext cx="363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177920" y="3200400"/>
                <a:ext cx="13176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87" name="Object 7"/>
          <p:cNvGraphicFramePr/>
          <p:nvPr/>
        </p:nvGraphicFramePr>
        <p:xfrm>
          <a:off x="5715000" y="1219320"/>
          <a:ext cx="2382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219320"/>
                    <a:ext cx="2382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u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ingular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ipulator end effector cant move in certain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End-Effector velocities may correspond to unbounded joint velo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joint torques may correspond to unbounded End-Effector forces and tor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04920" y="1447920"/>
            <a:ext cx="822960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cross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7"/>
          <p:cNvGraphicFramePr/>
          <p:nvPr/>
        </p:nvGraphicFramePr>
        <p:xfrm>
          <a:off x="1371600" y="1542960"/>
          <a:ext cx="2500200" cy="15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42960"/>
                    <a:ext cx="250020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12"/>
          <p:cNvGraphicFramePr/>
          <p:nvPr/>
        </p:nvGraphicFramePr>
        <p:xfrm>
          <a:off x="682560" y="4424400"/>
          <a:ext cx="5052960" cy="15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2560" y="4424400"/>
                    <a:ext cx="505296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DH par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04920" y="1447920"/>
            <a:ext cx="822960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formation matrix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9"/>
          <p:cNvGraphicFramePr/>
          <p:nvPr/>
        </p:nvGraphicFramePr>
        <p:xfrm>
          <a:off x="1219320" y="1447920"/>
          <a:ext cx="41446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41446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1219320" y="4495680"/>
                <a:ext cx="1962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219320" y="1676520"/>
                <a:ext cx="27828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13" name="Picture 12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6831000" cy="152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6172200" cy="148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"/>
          <p:cNvPicPr/>
          <p:nvPr/>
        </p:nvPicPr>
        <p:blipFill>
          <a:blip r:embed="rId3"/>
          <a:stretch/>
        </p:blipFill>
        <p:spPr>
          <a:xfrm>
            <a:off x="609480" y="5791320"/>
            <a:ext cx="781236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990720" y="1523880"/>
            <a:ext cx="72388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l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, n=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362320" y="2971800"/>
            <a:ext cx="3047400" cy="3276720"/>
            <a:chOff x="2362320" y="2971800"/>
            <a:chExt cx="3047400" cy="3276720"/>
          </a:xfrm>
        </p:grpSpPr>
        <p:sp>
          <p:nvSpPr>
            <p:cNvPr id="223" name="AutoShape 5"/>
            <p:cNvSpPr/>
            <p:nvPr/>
          </p:nvSpPr>
          <p:spPr>
            <a:xfrm rot="17178000">
              <a:off x="2285640" y="510552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6"/>
            <p:cNvSpPr/>
            <p:nvPr/>
          </p:nvSpPr>
          <p:spPr>
            <a:xfrm rot="19084800">
              <a:off x="3123720" y="3809880"/>
              <a:ext cx="182844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2362320" y="6096240"/>
              <a:ext cx="137124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"/>
            <p:cNvSpPr/>
            <p:nvPr/>
          </p:nvSpPr>
          <p:spPr>
            <a:xfrm>
              <a:off x="3428640" y="4496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 flipV="1">
              <a:off x="3428640" y="3924000"/>
              <a:ext cx="72360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 flipV="1">
              <a:off x="3466800" y="38480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"/>
            <p:cNvSpPr/>
            <p:nvPr/>
          </p:nvSpPr>
          <p:spPr>
            <a:xfrm>
              <a:off x="3543120" y="4140360"/>
              <a:ext cx="22824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2"/>
            <p:cNvSpPr/>
            <p:nvPr/>
          </p:nvSpPr>
          <p:spPr>
            <a:xfrm>
              <a:off x="3626280" y="3702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4724280" y="3353040"/>
              <a:ext cx="7560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 rot="17266800">
              <a:off x="2896920" y="60228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3238200" y="5753160"/>
              <a:ext cx="30456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6"/>
            <p:cNvSpPr/>
            <p:nvPr/>
          </p:nvSpPr>
          <p:spPr>
            <a:xfrm>
              <a:off x="3283200" y="54644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7"/>
            <p:cNvSpPr/>
            <p:nvPr/>
          </p:nvSpPr>
          <p:spPr>
            <a:xfrm>
              <a:off x="4571640" y="2971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3504960" y="4572000"/>
              <a:ext cx="53316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2971440" y="6096240"/>
              <a:ext cx="60948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0"/>
            <p:cNvSpPr/>
            <p:nvPr/>
          </p:nvSpPr>
          <p:spPr>
            <a:xfrm flipH="1">
              <a:off x="3580920" y="4724640"/>
              <a:ext cx="4568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1"/>
            <p:cNvSpPr/>
            <p:nvPr/>
          </p:nvSpPr>
          <p:spPr>
            <a:xfrm>
              <a:off x="4724280" y="3429000"/>
              <a:ext cx="60912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2"/>
            <p:cNvSpPr/>
            <p:nvPr/>
          </p:nvSpPr>
          <p:spPr>
            <a:xfrm>
              <a:off x="3504960" y="4572000"/>
              <a:ext cx="60912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3"/>
            <p:cNvSpPr/>
            <p:nvPr/>
          </p:nvSpPr>
          <p:spPr>
            <a:xfrm flipV="1">
              <a:off x="4114440" y="4038480"/>
              <a:ext cx="1218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4495680" y="4191120"/>
              <a:ext cx="532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3733560" y="541044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AF03-1D81-44FC-ABD2-4E4AA8EDA0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4219560" cy="2657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-685800" y="4267080"/>
            <a:ext cx="582948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314360" cy="35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7620120" y="2666880"/>
            <a:ext cx="6667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5105520" y="22860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enoted by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9"/>
          <p:cNvGraphicFramePr/>
          <p:nvPr/>
        </p:nvGraphicFramePr>
        <p:xfrm>
          <a:off x="3886200" y="457200"/>
          <a:ext cx="226044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57200"/>
                    <a:ext cx="2260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Picture 60" descr=""/>
          <p:cNvPicPr/>
          <p:nvPr/>
        </p:nvPicPr>
        <p:blipFill>
          <a:blip r:embed="rId7"/>
          <a:stretch/>
        </p:blipFill>
        <p:spPr>
          <a:xfrm>
            <a:off x="685800" y="380880"/>
            <a:ext cx="3067200" cy="14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Object 7"/>
          <p:cNvGraphicFramePr/>
          <p:nvPr/>
        </p:nvGraphicFramePr>
        <p:xfrm>
          <a:off x="6781680" y="3581280"/>
          <a:ext cx="1284480" cy="1057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81680" y="3581280"/>
                    <a:ext cx="12844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2"/>
          <p:cNvGraphicFramePr/>
          <p:nvPr/>
        </p:nvGraphicFramePr>
        <p:xfrm>
          <a:off x="304920" y="5877000"/>
          <a:ext cx="4884480" cy="98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7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920" y="5877000"/>
                    <a:ext cx="4884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matic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590400" y="1981080"/>
                <a:ext cx="81144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2844720" y="1981080"/>
                <a:ext cx="812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" name="Text Box 6"/>
          <p:cNvSpPr/>
          <p:nvPr/>
        </p:nvSpPr>
        <p:spPr>
          <a:xfrm>
            <a:off x="380880" y="420516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666880" y="4052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600200" y="23623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600200" y="380988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6002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09480" y="5638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the tool can be specified using a joint space or a cartesian space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1530000" y="205740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FK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90720" y="1523880"/>
            <a:ext cx="723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l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, n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7"/>
          <p:cNvGraphicFramePr/>
          <p:nvPr/>
        </p:nvGraphicFramePr>
        <p:xfrm>
          <a:off x="1066680" y="3200400"/>
          <a:ext cx="51627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00400"/>
                    <a:ext cx="51627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Group 4"/>
          <p:cNvGrpSpPr/>
          <p:nvPr/>
        </p:nvGrpSpPr>
        <p:grpSpPr>
          <a:xfrm>
            <a:off x="5715000" y="2971800"/>
            <a:ext cx="3048120" cy="3276720"/>
            <a:chOff x="5715000" y="2971800"/>
            <a:chExt cx="3048120" cy="3276720"/>
          </a:xfrm>
        </p:grpSpPr>
        <p:sp>
          <p:nvSpPr>
            <p:cNvPr id="267" name="AutoShape 5"/>
            <p:cNvSpPr/>
            <p:nvPr/>
          </p:nvSpPr>
          <p:spPr>
            <a:xfrm rot="17178000">
              <a:off x="5638680" y="510516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 rot="19084800">
              <a:off x="6477120" y="380988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7"/>
            <p:cNvSpPr/>
            <p:nvPr/>
          </p:nvSpPr>
          <p:spPr>
            <a:xfrm>
              <a:off x="5715000" y="6096240"/>
              <a:ext cx="137160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"/>
            <p:cNvSpPr/>
            <p:nvPr/>
          </p:nvSpPr>
          <p:spPr>
            <a:xfrm>
              <a:off x="6781680" y="449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9"/>
            <p:cNvSpPr/>
            <p:nvPr/>
          </p:nvSpPr>
          <p:spPr>
            <a:xfrm flipV="1">
              <a:off x="6781680" y="3924000"/>
              <a:ext cx="72396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6819840" y="384804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1"/>
            <p:cNvSpPr/>
            <p:nvPr/>
          </p:nvSpPr>
          <p:spPr>
            <a:xfrm>
              <a:off x="6896160" y="4140360"/>
              <a:ext cx="22860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6979320" y="3702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3"/>
            <p:cNvSpPr/>
            <p:nvPr/>
          </p:nvSpPr>
          <p:spPr>
            <a:xfrm>
              <a:off x="8077320" y="3353040"/>
              <a:ext cx="7596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4"/>
            <p:cNvSpPr/>
            <p:nvPr/>
          </p:nvSpPr>
          <p:spPr>
            <a:xfrm rot="17266800">
              <a:off x="6249960" y="6022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"/>
            <p:cNvSpPr/>
            <p:nvPr/>
          </p:nvSpPr>
          <p:spPr>
            <a:xfrm>
              <a:off x="6591240" y="5753160"/>
              <a:ext cx="30492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6"/>
            <p:cNvSpPr/>
            <p:nvPr/>
          </p:nvSpPr>
          <p:spPr>
            <a:xfrm>
              <a:off x="6636600" y="54644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7"/>
            <p:cNvSpPr/>
            <p:nvPr/>
          </p:nvSpPr>
          <p:spPr>
            <a:xfrm>
              <a:off x="7924680" y="29718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8"/>
            <p:cNvSpPr/>
            <p:nvPr/>
          </p:nvSpPr>
          <p:spPr>
            <a:xfrm>
              <a:off x="6858000" y="4572000"/>
              <a:ext cx="53352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6324480" y="6096240"/>
              <a:ext cx="60984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 flipH="1">
              <a:off x="6934320" y="4724640"/>
              <a:ext cx="457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8077320" y="34290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>
              <a:off x="6858000" y="45720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 flipV="1">
              <a:off x="7467480" y="403848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4"/>
            <p:cNvSpPr/>
            <p:nvPr/>
          </p:nvSpPr>
          <p:spPr>
            <a:xfrm>
              <a:off x="7848720" y="41911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5"/>
            <p:cNvSpPr/>
            <p:nvPr/>
          </p:nvSpPr>
          <p:spPr>
            <a:xfrm>
              <a:off x="7086600" y="541044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Picture 60" descr=""/>
          <p:cNvPicPr/>
          <p:nvPr/>
        </p:nvPicPr>
        <p:blipFill>
          <a:blip r:embed="rId3"/>
          <a:stretch/>
        </p:blipFill>
        <p:spPr>
          <a:xfrm>
            <a:off x="4952880" y="1752480"/>
            <a:ext cx="30672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7"/>
          <p:cNvGraphicFramePr/>
          <p:nvPr/>
        </p:nvGraphicFramePr>
        <p:xfrm>
          <a:off x="2281320" y="1447920"/>
          <a:ext cx="2581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1447920"/>
                    <a:ext cx="2581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9"/>
          <p:cNvGraphicFramePr/>
          <p:nvPr/>
        </p:nvGraphicFramePr>
        <p:xfrm>
          <a:off x="762120" y="2590920"/>
          <a:ext cx="6046560" cy="31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590920"/>
                    <a:ext cx="604656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7"/>
          <p:cNvGraphicFramePr/>
          <p:nvPr/>
        </p:nvGraphicFramePr>
        <p:xfrm>
          <a:off x="2293920" y="1447920"/>
          <a:ext cx="2554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1447920"/>
                    <a:ext cx="2554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9"/>
          <p:cNvGraphicFramePr/>
          <p:nvPr/>
        </p:nvGraphicFramePr>
        <p:xfrm>
          <a:off x="2182680" y="2743200"/>
          <a:ext cx="4270680" cy="317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2680" y="2743200"/>
                    <a:ext cx="42706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7"/>
          <p:cNvGraphicFramePr/>
          <p:nvPr/>
        </p:nvGraphicFramePr>
        <p:xfrm>
          <a:off x="4800600" y="1600200"/>
          <a:ext cx="207972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20797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10"/>
          <p:cNvGraphicFramePr/>
          <p:nvPr/>
        </p:nvGraphicFramePr>
        <p:xfrm>
          <a:off x="1631880" y="1447920"/>
          <a:ext cx="293076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1447920"/>
                    <a:ext cx="29307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11"/>
          <p:cNvGraphicFramePr/>
          <p:nvPr/>
        </p:nvGraphicFramePr>
        <p:xfrm>
          <a:off x="1523880" y="4572000"/>
          <a:ext cx="179244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572000"/>
                    <a:ext cx="17924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Rectangle 12"/>
          <p:cNvSpPr/>
          <p:nvPr/>
        </p:nvSpPr>
        <p:spPr>
          <a:xfrm>
            <a:off x="609480" y="4038480"/>
            <a:ext cx="7239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quired Jacobian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2648160" cy="22669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"/>
          <p:cNvPicPr/>
          <p:nvPr/>
        </p:nvPicPr>
        <p:blipFill>
          <a:blip r:embed="rId2"/>
          <a:stretch/>
        </p:blipFill>
        <p:spPr>
          <a:xfrm>
            <a:off x="0" y="3657600"/>
            <a:ext cx="280044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9"/>
          <p:cNvGraphicFramePr/>
          <p:nvPr/>
        </p:nvGraphicFramePr>
        <p:xfrm>
          <a:off x="4876920" y="1676520"/>
          <a:ext cx="2260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76520"/>
                    <a:ext cx="2260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7" name="Picture 8" descr=""/>
          <p:cNvPicPr/>
          <p:nvPr/>
        </p:nvPicPr>
        <p:blipFill>
          <a:blip r:embed="rId5"/>
          <a:stretch/>
        </p:blipFill>
        <p:spPr>
          <a:xfrm>
            <a:off x="0" y="4724280"/>
            <a:ext cx="2714760" cy="1181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"/>
          <p:cNvPicPr/>
          <p:nvPr/>
        </p:nvPicPr>
        <p:blipFill>
          <a:blip r:embed="rId6"/>
          <a:stretch/>
        </p:blipFill>
        <p:spPr>
          <a:xfrm>
            <a:off x="2666880" y="3581280"/>
            <a:ext cx="2514600" cy="1105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"/>
          <p:cNvPicPr/>
          <p:nvPr/>
        </p:nvPicPr>
        <p:blipFill>
          <a:blip r:embed="rId7"/>
          <a:stretch/>
        </p:blipFill>
        <p:spPr>
          <a:xfrm>
            <a:off x="2666880" y="4724280"/>
            <a:ext cx="2810160" cy="1038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"/>
          <p:cNvPicPr/>
          <p:nvPr/>
        </p:nvPicPr>
        <p:blipFill>
          <a:blip r:embed="rId8"/>
          <a:stretch/>
        </p:blipFill>
        <p:spPr>
          <a:xfrm>
            <a:off x="5410080" y="4876920"/>
            <a:ext cx="2772000" cy="1152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"/>
          <p:cNvPicPr/>
          <p:nvPr/>
        </p:nvPicPr>
        <p:blipFill>
          <a:blip r:embed="rId9"/>
          <a:stretch/>
        </p:blipFill>
        <p:spPr>
          <a:xfrm>
            <a:off x="5715000" y="3581280"/>
            <a:ext cx="2886120" cy="12384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3"/>
          <p:cNvSpPr/>
          <p:nvPr/>
        </p:nvSpPr>
        <p:spPr>
          <a:xfrm>
            <a:off x="548280" y="11430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H parameter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2800440" cy="1190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2714760" cy="1181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5410080" y="1371600"/>
            <a:ext cx="2514600" cy="11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7" name="Object 7"/>
          <p:cNvGraphicFramePr/>
          <p:nvPr/>
        </p:nvGraphicFramePr>
        <p:xfrm>
          <a:off x="152280" y="2662200"/>
          <a:ext cx="99540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662200"/>
                    <a:ext cx="9954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4"/>
          <p:cNvGraphicFramePr/>
          <p:nvPr/>
        </p:nvGraphicFramePr>
        <p:xfrm>
          <a:off x="0" y="3276720"/>
          <a:ext cx="3746520" cy="152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276720"/>
                    <a:ext cx="374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6"/>
          <p:cNvGraphicFramePr/>
          <p:nvPr/>
        </p:nvGraphicFramePr>
        <p:xfrm>
          <a:off x="3962520" y="2666880"/>
          <a:ext cx="1155600" cy="158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2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2520" y="2666880"/>
                    <a:ext cx="11556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5"/>
          <p:cNvGraphicFramePr/>
          <p:nvPr/>
        </p:nvGraphicFramePr>
        <p:xfrm>
          <a:off x="5029200" y="2743200"/>
          <a:ext cx="1370160" cy="158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29200" y="2743200"/>
                    <a:ext cx="137016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8"/>
          <p:cNvGraphicFramePr/>
          <p:nvPr/>
        </p:nvGraphicFramePr>
        <p:xfrm>
          <a:off x="6324480" y="2743200"/>
          <a:ext cx="1449360" cy="158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24480" y="2743200"/>
                    <a:ext cx="144936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9"/>
          <p:cNvGraphicFramePr/>
          <p:nvPr/>
        </p:nvGraphicFramePr>
        <p:xfrm>
          <a:off x="-34920" y="5029200"/>
          <a:ext cx="4606920" cy="1523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8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-34920" y="5029200"/>
                    <a:ext cx="4606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10"/>
          <p:cNvGraphicFramePr/>
          <p:nvPr/>
        </p:nvGraphicFramePr>
        <p:xfrm>
          <a:off x="7694640" y="2666880"/>
          <a:ext cx="1449360" cy="1586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50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694640" y="2666880"/>
                    <a:ext cx="144936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11"/>
          <p:cNvGraphicFramePr/>
          <p:nvPr/>
        </p:nvGraphicFramePr>
        <p:xfrm>
          <a:off x="7176960" y="4572000"/>
          <a:ext cx="1967040" cy="1185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52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176960" y="4572000"/>
                    <a:ext cx="1967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12"/>
          <p:cNvGraphicFramePr/>
          <p:nvPr/>
        </p:nvGraphicFramePr>
        <p:xfrm>
          <a:off x="4565520" y="4648320"/>
          <a:ext cx="1393920" cy="1185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54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565520" y="4648320"/>
                    <a:ext cx="1393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13"/>
          <p:cNvGraphicFramePr/>
          <p:nvPr/>
        </p:nvGraphicFramePr>
        <p:xfrm>
          <a:off x="5867280" y="4572000"/>
          <a:ext cx="1332000" cy="1185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56" name="Object 1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867280" y="4572000"/>
                    <a:ext cx="13320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7"/>
          <p:cNvGraphicFramePr/>
          <p:nvPr/>
        </p:nvGraphicFramePr>
        <p:xfrm>
          <a:off x="487440" y="1676520"/>
          <a:ext cx="147456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1676520"/>
                    <a:ext cx="14745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8"/>
          <p:cNvGraphicFramePr/>
          <p:nvPr/>
        </p:nvGraphicFramePr>
        <p:xfrm>
          <a:off x="384120" y="2438280"/>
          <a:ext cx="167976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2438280"/>
                    <a:ext cx="16797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9"/>
          <p:cNvGraphicFramePr/>
          <p:nvPr/>
        </p:nvGraphicFramePr>
        <p:xfrm>
          <a:off x="284040" y="2971800"/>
          <a:ext cx="192564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040" y="2971800"/>
                    <a:ext cx="19256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0"/>
          <p:cNvGraphicFramePr/>
          <p:nvPr/>
        </p:nvGraphicFramePr>
        <p:xfrm>
          <a:off x="380880" y="3657600"/>
          <a:ext cx="2629080" cy="15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657600"/>
                    <a:ext cx="262908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10"/>
          <p:cNvSpPr/>
          <p:nvPr/>
        </p:nvSpPr>
        <p:spPr>
          <a:xfrm>
            <a:off x="2822400" y="1384200"/>
            <a:ext cx="603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c1c2c4-s1s4,       -c1s2, -c1c2s4-s1*c4,  c1s2d3-sin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s1c2c4+c1s4,   -s1s2, -s1c2s4+c1c4, s1s2d3+c1*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-s2c4,  -c2,  s2s4, c2*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11"/>
          <p:cNvGraphicFramePr/>
          <p:nvPr/>
        </p:nvGraphicFramePr>
        <p:xfrm>
          <a:off x="3962520" y="3886200"/>
          <a:ext cx="198756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886200"/>
                    <a:ext cx="19875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304920" y="1524240"/>
            <a:ext cx="94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c1c2c4-s1s4)c5-c1s2s5, c1c2s4+s1c4, (c1c2c4-s1s4)s5+c1s2c5,                                                                     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s1c2c4+c1s4)c5-s1s2s5, s1c2s4-c1c4, (s1c2c4+c1s4)s5+s1s2c5,                                                                     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s2c4c5-c2s5, -s2s4, -s2c4s5+c2c5,  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11"/>
          <p:cNvGraphicFramePr/>
          <p:nvPr/>
        </p:nvGraphicFramePr>
        <p:xfrm>
          <a:off x="457200" y="3962520"/>
          <a:ext cx="3352680" cy="13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11"/>
          <p:cNvGraphicFramePr/>
          <p:nvPr/>
        </p:nvGraphicFramePr>
        <p:xfrm>
          <a:off x="4343400" y="3962520"/>
          <a:ext cx="3352680" cy="13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304920" y="1524240"/>
            <a:ext cx="94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c1c2c4-s1s4)c5-c1s2s5, c1c2s4+s1c4, (c1c2c4-s1s4)s5+c1s2c5,                                                                     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s1c2c4+c1s4)c5-s1s2s5, s1c2s4-c1c4, (s1c2c4+c1s4)s5+s1s2c5,                                                                     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s2c4c5-c2s5, -s2s4, -s2c4s5+c2c5,  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11"/>
          <p:cNvGraphicFramePr/>
          <p:nvPr/>
        </p:nvGraphicFramePr>
        <p:xfrm>
          <a:off x="457200" y="3962520"/>
          <a:ext cx="3352680" cy="13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4962600" y="3962520"/>
          <a:ext cx="1966680" cy="11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2600" y="3962520"/>
                    <a:ext cx="19666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1"/>
          <p:cNvGraphicFramePr/>
          <p:nvPr/>
        </p:nvGraphicFramePr>
        <p:xfrm>
          <a:off x="762120" y="4876920"/>
          <a:ext cx="577836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76920"/>
                    <a:ext cx="57783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6"/>
          <p:cNvSpPr/>
          <p:nvPr/>
        </p:nvSpPr>
        <p:spPr>
          <a:xfrm>
            <a:off x="0" y="166716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6 = [  c6c5c1c2c4-c6c5s1s4-c6c1s2s5+s6c1c2s4+s6s1c4, -c5c1c2c4+s6c5s1s4+s6c1s2s5+c6c1c2s4+c6s1c4, s5c1c2c4-s5s1s4+c1s2c5, d6s5c1c2c4-d6s5s1s4+d6c1s2c5+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c6c5s1c2c4+c6c5c1s4-c6s1s2s5+s6s1c2s4-s6c1c4, -s6c5s1c2c4-s6c5c1s4+s6s1s2s5+c6s1c2s4-c6c1c4, s5s1c2c4+s5c1s4+s1s2c5, d6s5s1c2c4+d6s5c1s4+d6s1s2c5+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c6s2c4c5-c6c2s5-s2s4s6, s6s2c4c5+s6c2s5-s2s4c6, -s2c4s5+c2c5, -d6s2c4s5+d6c2c5+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 0, 0, 0, 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276720" y="5562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791320" y="5486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1447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between joint velocity and cartesian velo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OBIAN matrix J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7"/>
          <p:cNvGrpSpPr/>
          <p:nvPr/>
        </p:nvGrpSpPr>
        <p:grpSpPr>
          <a:xfrm>
            <a:off x="3886200" y="2744640"/>
            <a:ext cx="2895480" cy="2818080"/>
            <a:chOff x="3886200" y="2744640"/>
            <a:chExt cx="2895480" cy="2818080"/>
          </a:xfrm>
        </p:grpSpPr>
        <mc:AlternateContent>
          <mc:Choice xmlns:a14="http://schemas.microsoft.com/office/drawing/2010/main" Requires="a14">
            <p:sp>
              <p:nvSpPr>
                <p:cNvPr id="69" name="Object 4"/>
                <p:cNvSpPr txBox="1"/>
                <p:nvPr/>
              </p:nvSpPr>
              <p:spPr>
                <a:xfrm>
                  <a:off x="3886200" y="2744640"/>
                  <a:ext cx="639720" cy="281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Object 14"/>
                <p:cNvSpPr txBox="1"/>
                <p:nvPr/>
              </p:nvSpPr>
              <p:spPr>
                <a:xfrm>
                  <a:off x="6095880" y="2744640"/>
                  <a:ext cx="685800" cy="275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z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1" name="AutoShape 8"/>
            <p:cNvSpPr/>
            <p:nvPr/>
          </p:nvSpPr>
          <p:spPr>
            <a:xfrm>
              <a:off x="4724280" y="3354120"/>
              <a:ext cx="990360" cy="304560"/>
            </a:xfrm>
            <a:prstGeom prst="rightArrow">
              <a:avLst>
                <a:gd name="adj1" fmla="val 50000"/>
                <a:gd name="adj2" fmla="val 8129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9"/>
            <p:cNvSpPr/>
            <p:nvPr/>
          </p:nvSpPr>
          <p:spPr>
            <a:xfrm>
              <a:off x="4724280" y="4421160"/>
              <a:ext cx="990360" cy="304560"/>
            </a:xfrm>
            <a:prstGeom prst="leftArrow">
              <a:avLst>
                <a:gd name="adj1" fmla="val 50000"/>
                <a:gd name="adj2" fmla="val 8129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Object 19"/>
                <p:cNvSpPr txBox="1"/>
                <p:nvPr/>
              </p:nvSpPr>
              <p:spPr>
                <a:xfrm>
                  <a:off x="4647960" y="2896920"/>
                  <a:ext cx="13716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Object 20"/>
                <p:cNvSpPr txBox="1"/>
                <p:nvPr/>
              </p:nvSpPr>
              <p:spPr>
                <a:xfrm>
                  <a:off x="4495680" y="4802400"/>
                  <a:ext cx="15685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=</m:t>
                      </m:r>
                      <m:sSup>
                        <m:e>
                          <m:r>
                            <m:t xml:space="preserve">J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7"/>
          <p:cNvGraphicFramePr/>
          <p:nvPr/>
        </p:nvGraphicFramePr>
        <p:xfrm>
          <a:off x="533520" y="1600200"/>
          <a:ext cx="51624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51624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Box 8"/>
          <p:cNvSpPr/>
          <p:nvPr/>
        </p:nvSpPr>
        <p:spPr>
          <a:xfrm>
            <a:off x="6248520" y="1828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s 1,2 are rev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8"/>
          <p:cNvGraphicFramePr/>
          <p:nvPr/>
        </p:nvGraphicFramePr>
        <p:xfrm>
          <a:off x="2622600" y="2892600"/>
          <a:ext cx="1290600" cy="104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2600" y="2892600"/>
                    <a:ext cx="12906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TextBox 10"/>
          <p:cNvSpPr/>
          <p:nvPr/>
        </p:nvSpPr>
        <p:spPr>
          <a:xfrm>
            <a:off x="5562720" y="3200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3 is pris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304920" y="4191120"/>
          <a:ext cx="7878600" cy="102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191120"/>
                    <a:ext cx="78786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12"/>
          <p:cNvSpPr/>
          <p:nvPr/>
        </p:nvSpPr>
        <p:spPr>
          <a:xfrm>
            <a:off x="553680" y="541008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quired Jacobian matri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10"/>
          <p:cNvGraphicFramePr/>
          <p:nvPr/>
        </p:nvGraphicFramePr>
        <p:xfrm>
          <a:off x="2612880" y="6019920"/>
          <a:ext cx="2968920" cy="37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2880" y="6019920"/>
                    <a:ext cx="29689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2654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 between the joint and end-effector veloc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j (m×n). If J is a square matrix (m=n), the joint velociti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&lt;n, let pseudoinverse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9"/>
          <p:cNvGraphicFramePr/>
          <p:nvPr/>
        </p:nvGraphicFramePr>
        <p:xfrm>
          <a:off x="1077840" y="1905120"/>
          <a:ext cx="134784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905120"/>
                    <a:ext cx="1347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8"/>
          <p:cNvGraphicFramePr/>
          <p:nvPr/>
        </p:nvGraphicFramePr>
        <p:xfrm>
          <a:off x="893880" y="3519360"/>
          <a:ext cx="1542960" cy="4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3880" y="3519360"/>
                    <a:ext cx="154296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5575320" y="4316400"/>
          <a:ext cx="204480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75320" y="4316400"/>
                    <a:ext cx="20448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20"/>
          <p:cNvGraphicFramePr/>
          <p:nvPr/>
        </p:nvGraphicFramePr>
        <p:xfrm>
          <a:off x="1300320" y="5029200"/>
          <a:ext cx="149544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6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00320" y="5029200"/>
                    <a:ext cx="1495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2654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 between the joint and end-effector veloc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ng this equation yields an expression for the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    of the end-effector acceleration, the joint acceleratio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19"/>
          <p:cNvGraphicFramePr/>
          <p:nvPr/>
        </p:nvGraphicFramePr>
        <p:xfrm>
          <a:off x="1077840" y="1905120"/>
          <a:ext cx="134784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905120"/>
                    <a:ext cx="1347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3"/>
          <p:cNvGraphicFramePr/>
          <p:nvPr/>
        </p:nvGraphicFramePr>
        <p:xfrm>
          <a:off x="914400" y="3429000"/>
          <a:ext cx="281952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8195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4"/>
          <p:cNvGraphicFramePr/>
          <p:nvPr/>
        </p:nvGraphicFramePr>
        <p:xfrm>
          <a:off x="1752480" y="4343400"/>
          <a:ext cx="3049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3434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5"/>
          <p:cNvGraphicFramePr/>
          <p:nvPr/>
        </p:nvGraphicFramePr>
        <p:xfrm>
          <a:off x="2438280" y="4648320"/>
          <a:ext cx="533520" cy="35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648320"/>
                    <a:ext cx="5335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2973240" y="4952880"/>
          <a:ext cx="2818080" cy="76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3240" y="4952880"/>
                    <a:ext cx="28180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7"/>
          <p:cNvGraphicFramePr/>
          <p:nvPr/>
        </p:nvGraphicFramePr>
        <p:xfrm>
          <a:off x="2700360" y="5713560"/>
          <a:ext cx="3112920" cy="76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00360" y="5713560"/>
                    <a:ext cx="31129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 position and orientation vector of a manipulator is a function of 6 joint variables: (from forward kinema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= h(q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1981080" y="3429000"/>
            <a:ext cx="3741840" cy="2133720"/>
            <a:chOff x="1981080" y="3429000"/>
            <a:chExt cx="3741840" cy="2133720"/>
          </a:xfrm>
        </p:grpSpPr>
        <mc:AlternateContent>
          <mc:Choice xmlns:a14="http://schemas.microsoft.com/office/drawing/2010/main" Requires="a14">
            <p:sp>
              <p:nvSpPr>
                <p:cNvPr id="78" name="Object 3"/>
                <p:cNvSpPr txBox="1"/>
                <p:nvPr/>
              </p:nvSpPr>
              <p:spPr>
                <a:xfrm>
                  <a:off x="1981080" y="3505320"/>
                  <a:ext cx="739800" cy="20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x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y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z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φ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θ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Object 4"/>
                <p:cNvSpPr txBox="1"/>
                <p:nvPr/>
              </p:nvSpPr>
              <p:spPr>
                <a:xfrm>
                  <a:off x="2689200" y="3429000"/>
                  <a:ext cx="1133640" cy="21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Object 5"/>
                <p:cNvSpPr txBox="1"/>
                <p:nvPr/>
              </p:nvSpPr>
              <p:spPr>
                <a:xfrm>
                  <a:off x="3657600" y="3429000"/>
                  <a:ext cx="2065320" cy="20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8080" y="11430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kin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1295280" y="2057400"/>
                <a:ext cx="1862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3757680" y="3276720"/>
                <a:ext cx="5157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9"/>
              <p:cNvSpPr txBox="1"/>
              <p:nvPr/>
            </p:nvSpPr>
            <p:spPr>
              <a:xfrm>
                <a:off x="838080" y="4343400"/>
                <a:ext cx="53028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1295280" y="4419720"/>
                <a:ext cx="24955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1"/>
              <p:cNvSpPr txBox="1"/>
              <p:nvPr/>
            </p:nvSpPr>
            <p:spPr>
              <a:xfrm>
                <a:off x="5354640" y="4952880"/>
                <a:ext cx="19494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AutoShape 13"/>
          <p:cNvSpPr/>
          <p:nvPr/>
        </p:nvSpPr>
        <p:spPr>
          <a:xfrm rot="18501600">
            <a:off x="3429360" y="2665800"/>
            <a:ext cx="503280" cy="873360"/>
          </a:xfrm>
          <a:prstGeom prst="downArrow">
            <a:avLst>
              <a:gd name="adj1" fmla="val 47056"/>
              <a:gd name="adj2" fmla="val 831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5943600" y="43434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>
            <a:off x="4572000" y="525780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1523880" y="4724280"/>
            <a:ext cx="1371600" cy="1371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7"/>
              <p:cNvSpPr txBox="1"/>
              <p:nvPr/>
            </p:nvSpPr>
            <p:spPr>
              <a:xfrm>
                <a:off x="4191120" y="5562720"/>
                <a:ext cx="142560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Rectangle 18"/>
          <p:cNvSpPr/>
          <p:nvPr/>
        </p:nvSpPr>
        <p:spPr>
          <a:xfrm>
            <a:off x="4191120" y="5562720"/>
            <a:ext cx="1371600" cy="9144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9"/>
          <p:cNvSpPr/>
          <p:nvPr/>
        </p:nvSpPr>
        <p:spPr>
          <a:xfrm>
            <a:off x="2286000" y="6095880"/>
            <a:ext cx="1905120" cy="40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1066680" y="1219320"/>
                <a:ext cx="703440" cy="28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1676520" y="1676520"/>
                <a:ext cx="246852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2819520" y="3505320"/>
                <a:ext cx="5333760" cy="28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Line 6"/>
          <p:cNvSpPr/>
          <p:nvPr/>
        </p:nvSpPr>
        <p:spPr>
          <a:xfrm>
            <a:off x="2514600" y="3124080"/>
            <a:ext cx="129528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952880" y="220968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obian is a function of q, it is not a consta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817560" y="1523880"/>
                <a:ext cx="1703520" cy="23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1085760" y="4863960"/>
                <a:ext cx="16732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4" name="Group 20"/>
          <p:cNvGrpSpPr/>
          <p:nvPr/>
        </p:nvGrpSpPr>
        <p:grpSpPr>
          <a:xfrm>
            <a:off x="2743200" y="1697040"/>
            <a:ext cx="1752480" cy="1960560"/>
            <a:chOff x="2743200" y="1697040"/>
            <a:chExt cx="1752480" cy="1960560"/>
          </a:xfrm>
        </p:grpSpPr>
        <mc:AlternateContent>
          <mc:Choice xmlns:a14="http://schemas.microsoft.com/office/drawing/2010/main" Requires="a14">
            <p:sp>
              <p:nvSpPr>
                <p:cNvPr id="105" name="Object 8"/>
                <p:cNvSpPr txBox="1"/>
                <p:nvPr/>
              </p:nvSpPr>
              <p:spPr>
                <a:xfrm>
                  <a:off x="2971800" y="2230200"/>
                  <a:ext cx="1041480" cy="142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Text Box 14"/>
            <p:cNvSpPr/>
            <p:nvPr/>
          </p:nvSpPr>
          <p:spPr>
            <a:xfrm>
              <a:off x="2743200" y="169704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ear velo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1"/>
          <p:cNvGrpSpPr/>
          <p:nvPr/>
        </p:nvGrpSpPr>
        <p:grpSpPr>
          <a:xfrm>
            <a:off x="4575240" y="1752480"/>
            <a:ext cx="2054160" cy="1920600"/>
            <a:chOff x="4575240" y="1752480"/>
            <a:chExt cx="2054160" cy="1920600"/>
          </a:xfrm>
        </p:grpSpPr>
        <mc:AlternateContent>
          <mc:Choice xmlns:a14="http://schemas.microsoft.com/office/drawing/2010/main" Requires="a14">
            <p:sp>
              <p:nvSpPr>
                <p:cNvPr id="108" name="Object 9"/>
                <p:cNvSpPr txBox="1"/>
                <p:nvPr/>
              </p:nvSpPr>
              <p:spPr>
                <a:xfrm>
                  <a:off x="4575240" y="2209680"/>
                  <a:ext cx="1709640" cy="14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Text Box 15"/>
            <p:cNvSpPr/>
            <p:nvPr/>
          </p:nvSpPr>
          <p:spPr>
            <a:xfrm>
              <a:off x="4648320" y="17524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ular velo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838080" y="4267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cbi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8"/>
              <p:cNvSpPr txBox="1"/>
              <p:nvPr/>
            </p:nvSpPr>
            <p:spPr>
              <a:xfrm>
                <a:off x="6629400" y="1905120"/>
                <a:ext cx="15382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l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257800" y="1371600"/>
            <a:ext cx="3048120" cy="3276720"/>
            <a:chOff x="5257800" y="1371600"/>
            <a:chExt cx="3048120" cy="3276720"/>
          </a:xfrm>
        </p:grpSpPr>
        <p:sp>
          <p:nvSpPr>
            <p:cNvPr id="115" name="AutoShape 5"/>
            <p:cNvSpPr/>
            <p:nvPr/>
          </p:nvSpPr>
          <p:spPr>
            <a:xfrm rot="17178000">
              <a:off x="5181480" y="350496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 rot="19084800">
              <a:off x="6019920" y="220968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5257800" y="4496040"/>
              <a:ext cx="137160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8"/>
            <p:cNvSpPr/>
            <p:nvPr/>
          </p:nvSpPr>
          <p:spPr>
            <a:xfrm>
              <a:off x="6324480" y="2895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V="1">
              <a:off x="6324480" y="2323800"/>
              <a:ext cx="72396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V="1">
              <a:off x="6362640" y="224784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438960" y="2540160"/>
              <a:ext cx="22860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6522120" y="21020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3"/>
            <p:cNvSpPr/>
            <p:nvPr/>
          </p:nvSpPr>
          <p:spPr>
            <a:xfrm>
              <a:off x="7620120" y="1752840"/>
              <a:ext cx="7596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4"/>
            <p:cNvSpPr/>
            <p:nvPr/>
          </p:nvSpPr>
          <p:spPr>
            <a:xfrm rot="17266800">
              <a:off x="5792760" y="44222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6134040" y="4152960"/>
              <a:ext cx="30492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6"/>
            <p:cNvSpPr/>
            <p:nvPr/>
          </p:nvSpPr>
          <p:spPr>
            <a:xfrm>
              <a:off x="6179400" y="3864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7"/>
            <p:cNvSpPr/>
            <p:nvPr/>
          </p:nvSpPr>
          <p:spPr>
            <a:xfrm>
              <a:off x="7467480" y="13716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>
              <a:off x="6400800" y="2971800"/>
              <a:ext cx="53352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5867280" y="4496040"/>
              <a:ext cx="60984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H="1">
              <a:off x="6477120" y="3124440"/>
              <a:ext cx="457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>
              <a:off x="7620120" y="18288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400800" y="29718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 flipV="1">
              <a:off x="7010280" y="243828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4"/>
            <p:cNvSpPr/>
            <p:nvPr/>
          </p:nvSpPr>
          <p:spPr>
            <a:xfrm>
              <a:off x="7391520" y="25909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5"/>
            <p:cNvSpPr/>
            <p:nvPr/>
          </p:nvSpPr>
          <p:spPr>
            <a:xfrm>
              <a:off x="6629400" y="381024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" name="Object 26"/>
              <p:cNvSpPr txBox="1"/>
              <p:nvPr/>
            </p:nvSpPr>
            <p:spPr>
              <a:xfrm>
                <a:off x="609480" y="2514600"/>
                <a:ext cx="4635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7"/>
              <p:cNvSpPr txBox="1"/>
              <p:nvPr/>
            </p:nvSpPr>
            <p:spPr>
              <a:xfrm>
                <a:off x="533520" y="4572000"/>
                <a:ext cx="7696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8"/>
              <p:cNvSpPr txBox="1"/>
              <p:nvPr/>
            </p:nvSpPr>
            <p:spPr>
              <a:xfrm>
                <a:off x="609480" y="3657600"/>
                <a:ext cx="17067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ula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verse of the jacobian matrix cannot be calculated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 [J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)]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ular points are such values of θ that cause the determinant of the Jacobian to be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yssam Elkady</cp:lastModifiedBy>
  <dcterms:modified xsi:type="dcterms:W3CDTF">2008-03-06T04:10:3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